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BA5-2C37-484A-8121-CFD953A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917-1CB9-4824-8E32-C83A3BAB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73B-6548-4D00-B05C-807C763C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782-F090-495F-A378-7C4F31C3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B00-30CF-4DAF-AADC-98428C93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7B0-9949-4DA6-AA7E-FE3E5109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558-EDC3-4B53-8521-69C7C07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38C-9FCF-487F-BBA8-48194BD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B48-D273-4616-9110-AC32DBF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2C2-5D41-4CAB-AA74-CBAC17A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FE2-34F1-44AB-A5A7-7B70066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E38-A77A-40AE-ABE3-87ED498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28F-8DEF-49EB-9043-CCB86344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609120" y="73080"/>
            <a:ext cx="7500600" cy="4505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600" spc="-1" strike="noStrike">
                <a:solidFill>
                  <a:srgbClr val="ffffff"/>
                </a:solidFill>
                <a:latin typeface="a_Albionic"/>
              </a:rPr>
              <a:t>Те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0" lang="bg-BG" sz="8800" spc="-1" strike="noStrike">
                <a:solidFill>
                  <a:srgbClr val="99ccff"/>
                </a:solidFill>
                <a:latin typeface="a_Albionic"/>
              </a:rPr>
              <a:t>молим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</a:t>
            </a:r>
            <a:r>
              <a:rPr b="0" lang="bg-BG" sz="8000" spc="-1" strike="noStrike">
                <a:solidFill>
                  <a:srgbClr val="ffffff"/>
                </a:solidFill>
                <a:latin typeface="a_Albionic"/>
              </a:rPr>
              <a:t>Отче наш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160" y="4941720"/>
            <a:ext cx="8001720" cy="10083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във Свойта благод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5720" y="477720"/>
            <a:ext cx="5516280" cy="3141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Разкри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пред на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</a:t>
            </a:r>
            <a:r>
              <a:rPr b="0" lang="bg-BG" sz="8000" spc="-1" strike="noStrike">
                <a:solidFill>
                  <a:srgbClr val="99ccff"/>
                </a:solidFill>
                <a:latin typeface="a_Albionic"/>
              </a:rPr>
              <a:t>Христ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720" y="4334040"/>
            <a:ext cx="5510160" cy="8251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_Albionic"/>
              </a:rPr>
              <a:t>на кръст разпна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63040" y="-104760"/>
            <a:ext cx="7831080" cy="4543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003399"/>
                </a:solidFill>
                <a:latin typeface="a_Albionic"/>
              </a:rPr>
              <a:t>от нашите сър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</a:t>
            </a:r>
            <a:r>
              <a:rPr b="0" lang="bg-BG" sz="7200" spc="-1" strike="noStrike">
                <a:solidFill>
                  <a:srgbClr val="ffffff"/>
                </a:solidFill>
                <a:latin typeface="a_Albionic"/>
              </a:rPr>
              <a:t>страха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3280" y="1916280"/>
            <a:ext cx="43596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прого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  <p:transition advTm="7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1600" y="46080"/>
            <a:ext cx="645804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във сила обле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99ccff"/>
                </a:solidFill>
                <a:latin typeface="a_Albionic"/>
              </a:rPr>
              <a:t>Т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уми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ел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81080" y="4076640"/>
            <a:ext cx="9325080" cy="29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_Albionic"/>
              </a:rPr>
              <a:t>/</a:t>
            </a: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за</a:t>
            </a:r>
            <a:r>
              <a:rPr b="0" lang="bg-BG" sz="54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да достигн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en-US" sz="6000" spc="-1" strike="noStrike">
                <a:solidFill>
                  <a:srgbClr val="99ccff"/>
                </a:solidFill>
                <a:latin typeface="a_Albionic"/>
              </a:rPr>
              <a:t>    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с</a:t>
            </a: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99ccff"/>
                </a:solidFill>
                <a:latin typeface="a_Albionic"/>
              </a:rPr>
              <a:t>любовта 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en-US" sz="6000" spc="-1" strike="noStrike">
                <a:solidFill>
                  <a:srgbClr val="99ccff"/>
                </a:solidFill>
                <a:latin typeface="a_Albionic"/>
              </a:rPr>
              <a:t>                      </a:t>
            </a:r>
            <a:r>
              <a:rPr b="0" lang="bg-BG" sz="5400" spc="-1" strike="noStrike">
                <a:solidFill>
                  <a:srgbClr val="003399"/>
                </a:solidFill>
                <a:latin typeface="a_Albionic"/>
              </a:rPr>
              <a:t>този свят.</a:t>
            </a:r>
            <a:r>
              <a:rPr b="0" lang="en-US" sz="5400" spc="-1" strike="noStrike">
                <a:solidFill>
                  <a:srgbClr val="003399"/>
                </a:solidFill>
                <a:latin typeface="a_Albionic"/>
              </a:rPr>
              <a:t>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9800" y="5086440"/>
            <a:ext cx="624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а ни приютиш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2808360" y="57240"/>
            <a:ext cx="5514840" cy="36896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ff"/>
                </a:solidFill>
                <a:latin typeface="a_Albionic"/>
              </a:rPr>
              <a:t>Т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изпра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</a:t>
            </a:r>
            <a:r>
              <a:rPr b="0" lang="bg-BG" sz="8800" spc="-1" strike="noStrike">
                <a:solidFill>
                  <a:srgbClr val="99ccff"/>
                </a:solidFill>
                <a:latin typeface="a_Albionic"/>
              </a:rPr>
              <a:t>Дух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5040" y="4726080"/>
            <a:ext cx="711324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3399"/>
                </a:solidFill>
                <a:latin typeface="a_Albionic"/>
              </a:rPr>
              <a:t>със свобода и м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5080" y="5513400"/>
            <a:ext cx="6333120" cy="119124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ff"/>
                </a:solidFill>
                <a:latin typeface="a_Albionic"/>
              </a:rPr>
              <a:t>да ни освети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55720" y="477720"/>
            <a:ext cx="5516280" cy="3141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Разкри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пред на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</a:t>
            </a:r>
            <a:r>
              <a:rPr b="0" lang="bg-BG" sz="8000" spc="-1" strike="noStrike">
                <a:solidFill>
                  <a:srgbClr val="99ccff"/>
                </a:solidFill>
                <a:latin typeface="a_Albionic"/>
              </a:rPr>
              <a:t>Христ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6720" y="4334040"/>
            <a:ext cx="5510160" cy="8251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_Albionic"/>
              </a:rPr>
              <a:t>на кръст разпна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63040" y="-104760"/>
            <a:ext cx="7831080" cy="4543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003399"/>
                </a:solidFill>
                <a:latin typeface="a_Albionic"/>
              </a:rPr>
              <a:t>от нашите сър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</a:t>
            </a:r>
            <a:r>
              <a:rPr b="0" lang="bg-BG" sz="7200" spc="-1" strike="noStrike">
                <a:solidFill>
                  <a:srgbClr val="ffffff"/>
                </a:solidFill>
                <a:latin typeface="a_Albionic"/>
              </a:rPr>
              <a:t>страха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3280" y="1916280"/>
            <a:ext cx="43596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прого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  <p:transition advTm="7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1600" y="46080"/>
            <a:ext cx="645804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във сила обле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99ccff"/>
                </a:solidFill>
                <a:latin typeface="a_Albionic"/>
              </a:rPr>
              <a:t>Т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уми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ел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437040" y="4422600"/>
            <a:ext cx="9661320" cy="20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  </a:t>
            </a: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за</a:t>
            </a:r>
            <a:r>
              <a:rPr b="0" lang="bg-BG" sz="54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_Albionic"/>
              </a:rPr>
              <a:t>да достигн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с</a:t>
            </a: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99ccff"/>
                </a:solidFill>
                <a:latin typeface="a_Albionic"/>
              </a:rPr>
              <a:t>любовта Ти</a:t>
            </a:r>
            <a:r>
              <a:rPr b="0" lang="bg-BG" sz="6000" spc="-1" strike="noStrike">
                <a:solidFill>
                  <a:srgbClr val="99ccff"/>
                </a:solidFill>
                <a:latin typeface="a_Albionic"/>
              </a:rPr>
              <a:t> </a:t>
            </a:r>
            <a:r>
              <a:rPr b="0" lang="bg-BG" sz="5400" spc="-1" strike="noStrike">
                <a:solidFill>
                  <a:srgbClr val="003399"/>
                </a:solidFill>
                <a:latin typeface="a_Albionic"/>
              </a:rPr>
              <a:t>този свя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7" name=""/>
          <p:cNvSpPr/>
          <p:nvPr/>
        </p:nvSpPr>
        <p:spPr>
          <a:xfrm>
            <a:off x="609120" y="73080"/>
            <a:ext cx="7500600" cy="4505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600" spc="-1" strike="noStrike">
                <a:solidFill>
                  <a:srgbClr val="ffffff"/>
                </a:solidFill>
                <a:latin typeface="a_Albionic"/>
              </a:rPr>
              <a:t>Те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0" lang="bg-BG" sz="8800" spc="-1" strike="noStrike">
                <a:solidFill>
                  <a:srgbClr val="99ccff"/>
                </a:solidFill>
                <a:latin typeface="a_Albionic"/>
              </a:rPr>
              <a:t>молим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</a:t>
            </a:r>
            <a:r>
              <a:rPr b="0" lang="bg-BG" sz="8000" spc="-1" strike="noStrike">
                <a:solidFill>
                  <a:srgbClr val="ffffff"/>
                </a:solidFill>
                <a:latin typeface="a_Albionic"/>
              </a:rPr>
              <a:t>Отче наш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1160" y="4941720"/>
            <a:ext cx="8001720" cy="10083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във Свойта благод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99800" y="5086440"/>
            <a:ext cx="624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да ни приютиш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2808360" y="57240"/>
            <a:ext cx="5514840" cy="36896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ff"/>
                </a:solidFill>
                <a:latin typeface="a_Albionic"/>
              </a:rPr>
              <a:t>Т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изпра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</a:t>
            </a:r>
            <a:r>
              <a:rPr b="0" lang="bg-BG" sz="8800" spc="-1" strike="noStrike">
                <a:solidFill>
                  <a:srgbClr val="99ccff"/>
                </a:solidFill>
                <a:latin typeface="a_Albionic"/>
              </a:rPr>
              <a:t>Дух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5040" y="4726080"/>
            <a:ext cx="711324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3399"/>
                </a:solidFill>
                <a:latin typeface="a_Albionic"/>
              </a:rPr>
              <a:t>със свобода и м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5080" y="5513400"/>
            <a:ext cx="6333120" cy="119124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ff"/>
                </a:solidFill>
                <a:latin typeface="a_Albionic"/>
              </a:rPr>
              <a:t>да ни освети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44:00Z</dcterms:created>
  <dc:creator>TrifonTrifonow</dc:creator>
  <dc:description/>
  <dc:language>en-US</dc:language>
  <cp:lastModifiedBy>TrifonTrifonow</cp:lastModifiedBy>
  <dcterms:modified xsi:type="dcterms:W3CDTF">2005-12-15T20:44:23Z</dcterms:modified>
  <cp:revision>1</cp:revision>
  <dc:subject/>
  <dc:title>Slide 1</dc:title>
</cp:coreProperties>
</file>